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7442-8D5C-4323-9349-320B13E75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0A11-45F5-477F-89D7-61FD2AEA8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2424-515C-4194-BCD3-88A316BF1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D481-62FA-42B5-A22A-498C6D309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C6A1-7C62-4C8D-8591-5EE293E92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ADCC-8BBD-428F-AC32-6F265ED1B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E829-A4DD-4A99-BA29-99C5E3083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CC14-B25B-4FFE-B57E-1E5886F55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81B72-036F-42BF-842D-837179BF2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A628-D801-48F5-8182-B78A8D4BC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FDEB-1AFB-4202-88AF-8897BB328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8DE1-4CDB-412F-824E-703BB4785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EF2F-3639-4120-A3A1-7F8D0DCD9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5E34-77E1-43A7-988C-58E958957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CBB1-28FD-4394-A774-1CC36A574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F776-7D4B-44C9-B6D0-F51670CF6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37CA-E9FA-489C-BA77-F72FA3F34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90AF-6FC3-4200-9112-DE9268C99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1A86-C87C-46E1-BCBE-AB4A1987D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4ED2-3962-4F36-BF56-E634AF554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AA5C-C1A3-451C-928D-8556B9D2F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6244-47C3-4720-B384-80CFA74DE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4EDC-EEF3-4327-8E72-C257453CE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64FA-6FA2-42B2-BBFD-8ABE2A1C9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AF51-10DD-47B2-8996-779686064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F564-813B-47B1-97EE-A40373CDC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7D3C-FBBE-4FF0-A6FA-41D591808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9A24-E956-4E0C-8BFF-354027866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989C-F890-4C78-A17D-44AC72A41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A599-EC45-4F41-B146-A3B40F268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57A6-5483-4EA1-8BC4-CD2B95CB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50A7-50E9-49AB-8490-45B329483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467B-5C24-444E-A7F2-E6664D51A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E2DF-D983-4E15-A7C1-72CD7012F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3F70-2061-426F-A791-9EEAB32C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55CF-6E4A-4028-982C-82A02B40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CFE36-43F1-4D82-938B-6D79CF03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AAEFC-D309-46D9-BDAE-EE96C311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4E17-5680-4D5C-89DB-185DF19D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5421-9808-4EFA-94DA-C12336FF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FE59-AE6B-4E7A-9C26-BD95986E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FAA66-3D44-4251-8957-36D81D83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4B434-F99C-4E0E-B9B9-AC5CB6CF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F202-3AF3-45FD-AF04-D3293A79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5FFE-60AA-47D0-872A-A6AEBDF1E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00DE-561E-453D-AD25-56BA16973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753A-C1ED-448E-8001-50C845F9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2B76-BD6D-4C34-9CC7-E3893CED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F9FA-E5E7-447F-B882-A95BEF39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AE1D-E011-4F22-AF04-C022B9AA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9720-E7B0-4E73-9FC1-3547EE58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C98E-74C7-44D8-8C74-964ADFA5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644B-BF7E-4D7F-92D6-7F52B975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0FC5-4C81-44F9-9479-C334CE20A3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8DED-4842-446C-A9E3-8A855BB8D6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hapter 2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ail Strategic Plann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Operation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6400800"/>
            <a:ext cx="86104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ling, 6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dition.  Copyright ©2008 by South-Western, a division of Thomson Learning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tatement of Goals and Objectiv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Performa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s how a retailer desires to be compared to its competi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tatement of Goals and Objectiv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Performa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s the profit and economic performance a retailer desi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arket Performance Objectiv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performance objectives establish the amount of dominance the retailer has in the market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arket Performance Objectiv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Sha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retailer’s total sales divided by total market s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inancial Objectiv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tability Objectiv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s that deal directly with monetary return a retailer desires from its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ofitability Objectiv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 Profit Mar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t Turn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on As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Le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on Net Wo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ofitability Objectiv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 Profit Marg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ratio of net profit (after taxes) to total sales and shows how much profit a retailer makes on each dollar of sales after all expenses and taxes have been m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ofitability Objectiv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t Turnov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total sales divided by total assets and shows how many dollars of sales a retailer can generate on an annual basis with each dollar invested in ass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trategic Profit Mod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6477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hibit 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838080" y="1562040"/>
            <a:ext cx="7315200" cy="45338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ofitability Objectiv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on Assets (ROA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net profit (after taxes) divided by total ass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earning Objectiv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why strategic planning is so important and be able to describe the components of strategic planning: statement of mission; goals and objectives; an analysis of strengths, weaknesses, opportunities, and threats; and strate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text’s retail strategic planning and operation management model, which explains the two tasks that a retailer must perform and how they lead to high prof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ofitability Objectiv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Lever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otal assets divided by net worth or owners’ equity and shows how aggressive the retailer is in its use of deb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ofitability Objectiv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on Net Worth (RONW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net profit (after taxes) divided by owners’ equ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ofitability Objectiv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ss Margin Percent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asure of profitability derived by dividing gross margin by net sal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oductivity Objectiv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vity Objectiv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the sales objective that the retailer desires for each unit of resource input: floor space, labor, and inventory invest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oductivity Objectiv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ce Produ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net sales divided by the total square feet of retail floor sp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oductivity Objectiv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ield Manage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derstanding, anticipating, and reacting to changing customer needs in order to maximize the revenue from a fixed capacity of available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oductivity Objectiv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 Produ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net sales divided by the number of full-time-equivalent employ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oductivity Objectiv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chandise Produ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net sales divided by the average dollar investment in inventory. (Sales-to-Stock Rat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oductivity Objectiv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S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venue per available seat mile calculation used by airl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ocietal Objectiv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al Objectiv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 the retailers’ desire to help society fulfill some of its nee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mponents of Strategic Planning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sion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 of Goals an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OT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ocietal Objectiv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ment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ment of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r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ersonal Objectiv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Objectiv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 the retailers’ desire to help individuals employed in retailing fulfill some of their nee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ersonal Objectiv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g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s and resp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and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tail Objectiv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6415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hibit 2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56200" y="3733920"/>
            <a:ext cx="476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865600" y="4267080"/>
            <a:ext cx="135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MT Black"/>
              </a:rPr>
              <a:t>Personal Objec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427640" y="4267080"/>
            <a:ext cx="135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MT Black"/>
              </a:rPr>
              <a:t>Societal Objec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495680" y="2286000"/>
            <a:ext cx="135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MT Black"/>
              </a:rPr>
              <a:t>Profit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019920" cy="47242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trategi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carefully designed plan for achieving the retailer’s goals and objec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inimal Retail Strategi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shoppers into your st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these shoppers into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having them purchase merchand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this at the lowest operating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that is consistent with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of service that your customers expect.</a:t>
            </a:r>
            <a:r>
              <a:rPr b="1" lang="en-US" sz="2800" spc="-1" strike="noStrike">
                <a:solidFill>
                  <a:srgbClr val="9999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ore Retail Strategi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differentiation of the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lling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-purchase satisf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ver being out of st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trategi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OT Analys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identification and analysis of a retailer’s strengths, weaknesses, opportunities, and threats a firm fa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WOT Analysi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96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nes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a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trategi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 Mark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group or groups of customers that the retailer is seeking to ser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mponents of Strategic Planning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anticipation and organization of what needs to be done to reach on obj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trategi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geographic space or cyberspace where the retailer conducts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eatures Offered by Best Buy to Meet the Needs of Its Various Customer Typ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2280" y="6415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hibit 2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053560" cy="40388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trategi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ail mi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combination of merchandise, assortment, price, promotion, customer service, and store layout that best serves the segments targeted by the retai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tail Mix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6415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hibit 2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143000" y="1419120"/>
            <a:ext cx="6781680" cy="47530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trategi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Propos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lear statement of the tangible and/or intangible results a customer receives from shopping at and using the retailer’s products or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tail Strategic Planning and Operations Management Mod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ons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-Profit Retai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tail Strategic Planning and Operations Management Mod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Plann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plan of action detailing how the retailer will respond to the environment in an effort to establish a long-term course of action to fol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tail Strategic Planning and Operations Management Mod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04920" y="6415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hibit 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315200" cy="46479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tail Strategic Planning and Operations Management Mod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ons Manage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ls with activities directed at maximizing the efficiency of the retailer’s use of resources. It is frequently referred to as day-to-day plan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tail Strategic Planning and Operations Management Mod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-Profit Retai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e a high profit retailer, the retailer needs good strategic planning coupled with strong operations manag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mponents of Strategic Planning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Plann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adapting the resources of the firm to the opportunities and threats of an ever-changing retail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rategic Profit Model for Some of the Country’s Leading Retail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52280" y="6415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hibit 2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086600" cy="44956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dditional Slid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lements of a Mission Statemen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1523880"/>
            <a:ext cx="7543800" cy="411480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8120" y="1523880"/>
            <a:ext cx="0" cy="41148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15000" y="1523880"/>
            <a:ext cx="0" cy="41148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" y="1600200"/>
            <a:ext cx="2209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he retailer uses or intends to use its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1600200"/>
            <a:ext cx="2514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he retailer expects to relate to the ever-changing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867280" y="1600200"/>
            <a:ext cx="22100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lues intended to offer to serve the needs and wants of consu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Goals and Objectiv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295280" y="1447920"/>
            <a:ext cx="6400800" cy="4647960"/>
          </a:xfrm>
          <a:prstGeom prst="flowChartOr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622520" y="2084400"/>
            <a:ext cx="2506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8840" y="2084400"/>
            <a:ext cx="2506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959120" y="4065480"/>
            <a:ext cx="207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e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952880" y="4065480"/>
            <a:ext cx="207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tail Planning and Managemen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1447920"/>
            <a:ext cx="3886200" cy="2133360"/>
          </a:xfrm>
          <a:prstGeom prst="diamond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2286000"/>
            <a:ext cx="3886200" cy="2286000"/>
          </a:xfrm>
          <a:prstGeom prst="diamond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66680" y="3733920"/>
            <a:ext cx="3962520" cy="2286000"/>
          </a:xfrm>
          <a:prstGeom prst="diamond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1981080"/>
            <a:ext cx="221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c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419720" y="2819520"/>
            <a:ext cx="259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on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7400" y="4343400"/>
            <a:ext cx="220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-profit Retai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mponents of Strategic Planning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sion State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basic description of the fundamental nature, rationale, and direction of the fi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lements of a Mission Statemen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he retailer uses or intends to use its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t expects to relate to the ever-changing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kinds of values it intends to provide in order to serve the needs and wa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consum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tatement of Goals and Objectiv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 and Objectiv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 performance results intended to be brought about through the execution of a strate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tatement of Goals and Objectiv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Performance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Performance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al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3T22:02:27Z</dcterms:created>
  <dc:creator>Steven Inman</dc:creator>
  <dc:description/>
  <dc:language>en-US</dc:language>
  <cp:lastModifiedBy>Steven Inman</cp:lastModifiedBy>
  <dcterms:modified xsi:type="dcterms:W3CDTF">2007-01-15T03:28:17Z</dcterms:modified>
  <cp:revision>3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